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03FD8-7EDE-4A5E-805C-22FEC5B4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9C2D-044F-4CA9-B860-AA2007A7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9EE2-1F59-477A-9DA6-7E7EB3A5D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19E6-0821-4540-9CD3-86FF8096C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0103-F331-4920-A34C-0718A568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03F7-3FBD-417E-BA86-B06A16320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D179-A8B3-45F0-AB03-6513144CD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C82F-7F98-4717-B062-A0E587F62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50E7-2375-4714-A4AE-362A6997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AC3D-42F4-4AA2-AECA-686FD339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AB47D-6D03-4FA7-86ED-AA26EE20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4BC0C-7599-4AC1-B77B-5527D466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E704-3A89-4F32-8403-E9BFD2BB719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solidFill>
            <a:srgbClr val="333399">
              <a:alpha val="4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Después, determinaremos cuál es su t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128760"/>
          </a:xfrm>
          <a:prstGeom prst="rect">
            <a:avLst/>
          </a:prstGeom>
          <a:solidFill>
            <a:srgbClr val="ff00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La primera declinación tiene tema en –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La segunda en –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La tercera en consonante o en –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La cuarta en –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660066"/>
                </a:solidFill>
                <a:latin typeface="Arial"/>
              </a:rPr>
              <a:t>La quinta en –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42560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Para distinguir el tema en consonante del tema en –i se cuenta el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número de sílabas del nominativo y el genitivo</a:t>
            </a: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 del enunc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solidFill>
            <a:srgbClr val="ff9900">
              <a:alpha val="48000"/>
            </a:srgbClr>
          </a:solidFill>
          <a:ln w="190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Si es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mparisílabo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, es tema en consonante. </a:t>
            </a: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Ej. Miles mi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La consonante del tema es la última letra de la raíz. 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Ej. Milit-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Cuando la raíz acaba en –r puede ser un tema en –s o en –r. 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Ej. Amor am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Es tema en –s , si el nominativo acaba en –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s.Ej. Honos honoris</a:t>
            </a: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Si es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isílabo,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 es tema en –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Ej.navis n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A continuación, veremos el género, para saber sí  es neut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El género neutro puede reconocerse mirando el </a:t>
            </a:r>
            <a:r>
              <a:rPr b="0" lang="en-US" sz="3200" spc="-1" strike="noStrike">
                <a:solidFill>
                  <a:srgbClr val="ff9933"/>
                </a:solidFill>
                <a:latin typeface="Arial"/>
              </a:rPr>
              <a:t>nominativo singular</a:t>
            </a: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 en el enunci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971640" y="3716280"/>
          <a:ext cx="7056360" cy="1119240"/>
        </p:xfrm>
        <a:graphic>
          <a:graphicData uri="http://schemas.openxmlformats.org/drawingml/2006/table">
            <a:tbl>
              <a:tblPr/>
              <a:tblGrid>
                <a:gridCol w="1935000"/>
                <a:gridCol w="1471680"/>
                <a:gridCol w="1471680"/>
                <a:gridCol w="1239840"/>
                <a:gridCol w="938160"/>
              </a:tblGrid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ª declin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tema -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tema -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en -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ª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542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m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-828720" y="-833400"/>
            <a:ext cx="10441080" cy="78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2826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ff"/>
                </a:solidFill>
                <a:latin typeface="Arial"/>
              </a:rPr>
              <a:t>Hagamos el esquema de la declinación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9640" y="1628640"/>
            <a:ext cx="8291520" cy="499752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Arial"/>
              </a:rPr>
              <a:t>Pondremos el nominativo y el genitivo del enunciad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403280" y="2421000"/>
          <a:ext cx="6096240" cy="40021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5T23:58:14Z</dcterms:created>
  <dc:creator>App</dc:creator>
  <dc:description/>
  <dc:language>en-US</dc:language>
  <cp:lastModifiedBy>PROFESORES</cp:lastModifiedBy>
  <dcterms:modified xsi:type="dcterms:W3CDTF">2010-01-19T16:34:09Z</dcterms:modified>
  <cp:revision>3</cp:revision>
  <dc:subject/>
  <dc:title>Diapositiva 1</dc:title>
</cp:coreProperties>
</file>